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DB0-76B5-4A0C-A9B9-3FF62A80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BC9-F449-4172-B2EA-B9D25A2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144-D801-40EB-8EED-F01E2987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128-A846-424D-A786-9FA5B0DA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CE0-73D2-41EC-9053-87543419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E4-0F40-4A18-B8AC-C06FA6B8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2E4-9B20-4125-B836-CBC4995C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F0C-FC9C-43D0-9FCF-51FD06C8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0C8-FC25-4E7A-BF96-FA09FAE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C03-9062-4116-99BB-71D4424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734-F645-4B26-934D-188E69C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EB9-B614-402B-95EC-AB0A994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0263-07EB-439F-AD0F-C997765BD6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6165720"/>
            <a:ext cx="4535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558972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2-23T21:01:33Z</dcterms:modified>
  <cp:revision>758</cp:revision>
  <dc:subject/>
  <dc:title>Diapositiva 1</dc:title>
</cp:coreProperties>
</file>